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56C-2B20-4417-9DD7-54A2F9FF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5FFC-D5E7-4668-86BF-DE1C1A1E1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AB-D9B6-48F3-B31E-3DA0BB9C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400-406D-4A7D-B74C-1B58B81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90-86BC-485C-AC79-6C0F9645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937-180E-4E43-B156-63C088AC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EC3E-D01D-42C1-8F5B-8DB67050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2600-5E62-45CE-AB51-430CB77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A61-607C-4169-9708-3DFF8C6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E8B7-4D10-48CF-86C3-44899BE4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081-1873-40A3-8441-33BDEEC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94E4-33B0-4B8A-81E6-9D55FB0E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160-CCD1-4E1B-94ED-58C7808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BC0-0374-4F30-8507-D87FC4B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A7F-8643-47CA-9635-8940C34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827-06F5-4467-8959-2C498B5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DD4-3A30-4EEF-B093-0E15D99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1151-ECAD-4D5B-AF31-37FE3DF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F442-84D3-46BA-9A52-3D824DCE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57D-4308-419C-8E5C-577AEDBC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698-7CF6-4ABB-AB26-6D0EC65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178-6199-4AF4-85DB-FD7E08C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F5C-697E-42A1-8E02-C90BB10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C78-A5BC-426C-B133-BEB2879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DB4-1DA2-4B9E-8856-8D71DF4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25B-D395-4183-BB16-A759FFE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175-0CF4-48CE-A986-E957531D18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23D-04DA-4410-AB75-F5FB74D31D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Introduction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to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 pathoph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siolog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iological factors can b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imary (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in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secondary (helping)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ending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the external environment or the organism itself)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vided into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xogenous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endogenou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xogenous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 etiological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traum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, pressure, irradiation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sons, drug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Biological agents (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roorganism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eri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sit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al imbalanc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990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tiolog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(transmitted from the parents to their children through the ge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nital (present from the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en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lo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factors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Inherite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conditions that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down to you from your par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mophi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disorder that leads to excessive bleeding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Metabolic disor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ormalities in the chemical signaling and interaction in the body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abetes mellitu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lood sugar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Problems with immunity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eaction of the immune syste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Pathogenesis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87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atho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pain, suffering, distres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onset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involved in disease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and disease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Example of p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thogenesi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957240"/>
            <a:ext cx="8358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FT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ic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osis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smembran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964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controls the movement of chloride ion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exocrine glands 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lumen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(biliary tract, bronchial glands, small intestine,tes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sweat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6"/>
          <p:cNvGrpSpPr/>
          <p:nvPr/>
        </p:nvGrpSpPr>
        <p:grpSpPr>
          <a:xfrm>
            <a:off x="4522680" y="1816200"/>
            <a:ext cx="4054680" cy="4352760"/>
            <a:chOff x="4522680" y="1816200"/>
            <a:chExt cx="4054680" cy="4352760"/>
          </a:xfrm>
        </p:grpSpPr>
        <p:pic>
          <p:nvPicPr>
            <p:cNvPr id="138" name="Rectangle 6" descr=""/>
            <p:cNvPicPr/>
            <p:nvPr/>
          </p:nvPicPr>
          <p:blipFill>
            <a:blip r:embed="rId1"/>
            <a:stretch/>
          </p:blipFill>
          <p:spPr>
            <a:xfrm>
              <a:off x="4522680" y="1816200"/>
              <a:ext cx="40546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7720" y="1824120"/>
              <a:ext cx="4044960" cy="43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ystic fibrosis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used by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of mu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opies of the gene for the CFT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nnel is primarily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the movement of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inside to outside of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the sweat ducts, it controls the movement of chlorid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the sweat duct into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FT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cretions which are usually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thin become thick and stic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54144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Function of </a:t>
            </a:r>
            <a:r>
              <a:rPr b="0" lang="sr-Latn-CS" sz="4400" spc="-1" strike="noStrike">
                <a:solidFill>
                  <a:srgbClr val="0070c0"/>
                </a:solidFill>
                <a:latin typeface="Times New Roman"/>
              </a:rPr>
              <a:t> CFTR 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protein </a:t>
            </a:r>
            <a:r>
              <a:rPr b="0" lang="sr-Latn-RS" sz="3600" spc="-1" strike="noStrike">
                <a:solidFill>
                  <a:srgbClr val="330033"/>
                </a:solidFill>
                <a:latin typeface="Times New Roman"/>
              </a:rPr>
              <a:t>(CFTR gene, chromosome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5"/>
          <p:cNvGrpSpPr/>
          <p:nvPr/>
        </p:nvGrpSpPr>
        <p:grpSpPr>
          <a:xfrm>
            <a:off x="822240" y="1292400"/>
            <a:ext cx="7248600" cy="4809960"/>
            <a:chOff x="822240" y="1292400"/>
            <a:chExt cx="7248600" cy="4809960"/>
          </a:xfrm>
        </p:grpSpPr>
        <p:pic>
          <p:nvPicPr>
            <p:cNvPr id="144" name="Rectangle 5" descr=""/>
            <p:cNvPicPr/>
            <p:nvPr/>
          </p:nvPicPr>
          <p:blipFill>
            <a:blip r:embed="rId1"/>
            <a:stretch/>
          </p:blipFill>
          <p:spPr>
            <a:xfrm>
              <a:off x="822240" y="1292400"/>
              <a:ext cx="724860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26920" y="1295280"/>
              <a:ext cx="7239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linical picture of cystic fibr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Picture 23" descr="GD110014"/>
          <p:cNvPicPr/>
          <p:nvPr/>
        </p:nvPicPr>
        <p:blipFill>
          <a:blip r:embed="rId1"/>
          <a:srcRect l="3447" t="0" r="0" b="0"/>
          <a:stretch/>
        </p:blipFill>
        <p:spPr>
          <a:xfrm>
            <a:off x="214200" y="1517760"/>
            <a:ext cx="508176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71600" y="2449440"/>
            <a:ext cx="57240" cy="98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266920" y="3249720"/>
            <a:ext cx="57240" cy="9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233440" y="3306600"/>
            <a:ext cx="57240" cy="74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459440" y="1008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39120" y="24591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le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H="1">
            <a:off x="2778120" y="2790720"/>
            <a:ext cx="37944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049480" y="1293840"/>
            <a:ext cx="4140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1400" y="2214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ystic 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Times New Roman"/>
              </a:rPr>
              <a:t>of du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1327320" y="2577600"/>
            <a:ext cx="903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295960" y="157176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y s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the first 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, viscous secretion cove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and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m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71680" y="5003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1709640" y="4452840"/>
            <a:ext cx="41616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500120"/>
            <a:ext cx="812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(stages of the disease) and the outcom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the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process of known etiology and patho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resence by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pecific cellular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issue damag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inic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ymptoms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evidence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f a dise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other people only know about them if informed by the individual with the cond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(back pain, fatigue etc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ign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 ev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disease, such as a skin rash or a coug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esults fro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r decrease in metabolism or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function such as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function such as increased mucus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echanical function such as a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cation of diseases according to the cour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up to seven day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ub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from seven days to 6 week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longer then 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ectively…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ms of the diseas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ubclinical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(lat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ild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disease with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early expressed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ever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erminal degre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e distinguish the following stages of the disease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tent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 between exposure to etiological factor(s) and first symptoms/signs (in infectious diseases it is incubation period) - no manifestations of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ntroductory or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odromal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and symptoms are usually mild and nonspecific like fatigue, fever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nifest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expressed disease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ypical location of pain, typical skin changes, changes in plasma concentrations of minerals and other substances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gression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recovery of normal functions of the body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ding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tio ad integru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ransition to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logic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ethal outcom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death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us letal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786120" y="4203720"/>
            <a:ext cx="2421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1. What 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s </a:t>
            </a: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the pathophysiology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derives from Greek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pathos = disease, pain, suffering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fysis = nature; </a:t>
            </a:r>
            <a:r>
              <a:rPr b="0" i="1" lang="sk-SK" sz="3200" spc="-1" strike="noStrike">
                <a:solidFill>
                  <a:srgbClr val="0d0d0d"/>
                </a:solidFill>
                <a:latin typeface="Times New Roman"/>
              </a:rPr>
              <a:t>an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logos =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 biomedical science dealing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functional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changes in diseased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It studies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isordered or </a:t>
            </a:r>
            <a:r>
              <a:rPr b="0" lang="sk-SK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ltered functions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-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the physiologic mechanisms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ltere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by disease in the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d0d0d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bject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of pathophysiology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r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mechanisms of their action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</a:rPr>
              <a:t>nternational Society for Pathophysiology (1998)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Pathophysiology is a modern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integrative biomedical science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founded on basic and clinical research that is concerned with the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 responsible for the initiation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evelopment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nd treatment of pathological processes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in humans and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lassification of pathophysiolog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istingu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genera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pathophysi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It deals with general pathologic processes, involved in pathogenesis of more than one diseas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, for example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inflammation,fever,shock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special</a:t>
            </a:r>
            <a:r>
              <a:rPr b="0" lang="sr-C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pathophysiology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(is devoted to analysis and explanation of pathomechanisms involved in functional disturbances of the organs and systems of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</a:rPr>
              <a:t>organs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hematological, neurologic, metabolic disorders, 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dysfunctions of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respiratory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 etc)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efinitions of health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94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s a state of complet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hysical, psychological and social well-being,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ot just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absence of illness and incapa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 is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 balance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etween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structure and function of the organism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ntal experience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which enables full working ability and thus full enjoyment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disease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s a disorder of this balance, with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duced capacity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for work and reduced enjoyment of life and ment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3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y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t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causes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(factors)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which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are involved in disease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1" lang="sr-Latn-RS" sz="2800" spc="-1" strike="noStrike">
                <a:solidFill>
                  <a:srgbClr val="303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and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with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conditions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under which the causes are able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to induce disease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processes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0:49:51Z</dcterms:created>
  <dc:creator>Simonovic</dc:creator>
  <dc:description/>
  <dc:language>en-US</dc:language>
  <cp:lastModifiedBy>User</cp:lastModifiedBy>
  <dcterms:modified xsi:type="dcterms:W3CDTF">2023-10-28T15:19:45Z</dcterms:modified>
  <cp:revision>85</cp:revision>
  <dc:subject/>
  <dc:title>UVOD U PATOLOŠKU FIZIOLOGIJU</dc:title>
</cp:coreProperties>
</file>